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E68-9BCE-40E6-843A-1B3EE772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B1E-8BED-4736-B9F5-40648B5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597-5B7E-4CC5-B577-D498DA44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F15-270E-4A84-8B3C-78D0E0A2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D93E-F63E-4D25-964C-25679398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18CA-0046-4912-BBB6-408AEEDF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414A-A91A-4B37-9B9B-692536D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4DCC-E60A-4FB9-9B13-D80DFF2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556-38B4-44D8-8873-CF6AB6F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636A-F3AF-4A63-9409-A55A0955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1226-FBC5-43A8-AAFC-56A6930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A22-DF66-4034-99BD-626DD93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1B3-3DB1-4488-84FA-C0B1CAE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A8C-2571-4BC1-93FA-2D403C3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A571-6742-45FA-BC32-66E0B09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BEBF-8F98-4466-9277-7208DFA2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59C8-3167-4D44-986C-26A193A0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BBBC-F9B2-424F-8E28-B069EFE7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BECB-C8D4-431D-A3A5-7EA75CB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B12B-4917-4E0D-A031-7C5FF0F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AD43-E620-49A4-9265-581A4C74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B61F-8F01-461B-8D9A-5B67105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CFA-EC5C-4280-9B1C-2E90A64F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F821-493D-4450-AAD6-EAB0E87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814A-B88A-4706-B1EC-1E87E80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B58C-7F11-4718-A3CA-CB45D37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EC5E-0F29-441B-A375-89C4E46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8DD7-6969-410B-877D-A1D5C53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0511-56AE-4CE6-A40D-7519FDE2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20A3-785D-45E8-AB84-B852E5B7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FE16-42CD-438C-BAAB-0834BE1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6ABD-A58B-4E0B-AFDF-AC4351A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2128-F5C3-420A-BD09-EA6CF5B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9A1-750B-46CA-A8B5-5F181BC5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90C7-E42D-442A-86BB-F8C1F6C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D644-32E1-498E-B59F-CFCFFC6C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FFC1-9711-4FF0-90C4-6FE6773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A91A-6362-41EF-888F-4D10997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D499-C354-4ECF-9AE6-BE472780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7A1B-9EBB-46C3-9F91-6490098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74C9-B6AF-426B-9D5B-85D0F30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DEC6-DC63-402F-AD34-2E64C98E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E835-F256-4199-9FDB-4428ABD7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0B72-488D-4C74-84F3-94CE9B83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F80-DB8E-43F8-B73C-D5212225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3B59-8765-4043-83DE-23154B0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8C67-81A5-447C-B710-672FCCD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1B4B-4EB3-4A52-BC2D-B55A8B5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B52C-932E-440B-9D8C-708B1E33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7BF8-F752-4B2A-98A5-B21A643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17EA-BB00-4505-810E-1812E93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8CEA-47FF-4029-8B0C-E4547AF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645F-B3FF-43D2-9B67-B8245E7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0963-62A8-4F79-A7A2-1D1F2C9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F9A5-D860-4CDC-8498-825AC433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9BA-DF47-4F33-B9A8-431819A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13C3-C037-4FCB-91A8-2749EAB1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921-E069-4C95-A098-5DFE2EE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EC2-0AFD-4703-8AFB-6274280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255-F102-4963-8D4E-57FE2D8D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2D5A2-7AC8-4B43-A7DD-9575D70E6B35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CCCE1-93D5-46CE-A26E-447AF910038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6A772-8BDB-4187-AC23-DFB876A4EF1F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E69E7-7A35-4928-9542-4C79E68A705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E8C9C-78A9-44A3-85BB-A9B5D2C23ABC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F97C8-49EE-4164-AA9A-FF59AC0DAC8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2E485-1885-46AD-A141-33F9AB8501BE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CFA77-5655-4EA5-B99F-0EB2A22B9D2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32323-8FDA-494F-9F4A-DF9B0EB71FAF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2B245-374C-420C-A42C-819EBBED295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3" descr=""/>
          <p:cNvPicPr/>
          <p:nvPr/>
        </p:nvPicPr>
        <p:blipFill>
          <a:blip r:embed="rId1"/>
          <a:stretch/>
        </p:blipFill>
        <p:spPr>
          <a:xfrm>
            <a:off x="414360" y="566640"/>
            <a:ext cx="8278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42" name="autonomic-nervous-system.gif" descr="/Users/Caroline/Desktop/autonomic-nervous-system.gif"/>
          <p:cNvPicPr/>
          <p:nvPr/>
        </p:nvPicPr>
        <p:blipFill>
          <a:blip r:embed="rId2"/>
          <a:srcRect l="-52817" t="0" r="-52817" b="0"/>
          <a:stretch/>
        </p:blipFill>
        <p:spPr>
          <a:xfrm>
            <a:off x="190512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10760" y="2184480"/>
            <a:ext cx="31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ols all involunta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on, such as interna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gans and gl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lps the body to operate under st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ght or flig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lates pupils, speeds heart rate, releases adrenaline, ec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784080" y="3511440"/>
            <a:ext cx="1063800" cy="124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2925720" y="4200480"/>
            <a:ext cx="1757520" cy="17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tretch/>
        </p:blipFill>
        <p:spPr>
          <a:xfrm>
            <a:off x="5713560" y="3340080"/>
            <a:ext cx="15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ms the body back down after st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pils contract, heartbeat slows, ec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1684440" y="2597040"/>
            <a:ext cx="4373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ill Heym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79720"/>
            <a:ext cx="8078760" cy="15562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: Diseases and Disord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Alzheimer’s Disease</a:t>
            </a: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lowly progressiv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stroys neurons &amp; the brain’s communication path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mentias is the most common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ral characteristic abnormal structures which cause malfunction or death to ce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3 stages- mild, moderate, seve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Epilepsy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causes unknown- Idiopath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know causes (ex: head injury)- Symptomat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causes suspected but not found- Crytogen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uses seizures, affects memory, affects attention sp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ds cause drowsiness, and mood &amp; behavior problems, but controls seiz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Parkinson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Slowly progressiv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Affects nerve cells (Basal Ganglia &amp; Substantia Nigra) which produce Dopamine (chemical messenger controlling body movements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Bradykinesia- slow movement, decreased blinking, drooling, lack of facial expression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remor-involuntary shak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Rigidity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Postural Instability-  sense of imbalance, tendency to fall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Multiple Sclerosis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ccurs when damage to Myelin (fat protecting the spinal cor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myelination-destruction which can occur anywhere in the central nervous 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ffects walking, 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uses memory loss, mood swings, learning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Spina Bifida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common neural tube birth defec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/1000 babies’ neural tubes don’t close properl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severe type- Myelomeningoce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ild/hidden type- Occul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arest type- Meningoce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serious type-Myelomeningocele or Op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urgery is sometimes need to prevent babies from dangerous infec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Alzheimer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Drugs to create emotion and better mind proces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Nursing homes for constant c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901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Caroline Tur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nervoussystem.jpg" descr="/Users/Caroline/Desktop/nervoussystem.jpg"/>
          <p:cNvPicPr/>
          <p:nvPr/>
        </p:nvPicPr>
        <p:blipFill>
          <a:blip r:embed="rId3"/>
          <a:stretch/>
        </p:blipFill>
        <p:spPr>
          <a:xfrm>
            <a:off x="189000" y="1397160"/>
            <a:ext cx="24336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and Treatment Tips for Epilepsy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Avoid situations in which head trauma could occ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Medication to control seiz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 Changes in lifestyle and die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Surgery- nerve stimul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Parkinson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Meds to replace dopamine in the brain, make a steady supply of levadopa in the blood, stop the destruction of dopamine, reduce acetylcholine activity, and block the excessive action of glutamat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Surge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-Pallidotomy, Thalamotomy, Deep Brain Stimul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Multiple Sclerosi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Medication for severe sympto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Assista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-devices- canes, walkers, wheel chairs and electric scoo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Physical therap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Spina Bifida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2" marL="720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Take folic acid vitamins for a few months before getting pregnant &amp; during pregna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-folic acid= a B vitamin found in broccoli, spinach , orange juice, and certain pastas, breads &amp; cerea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Especially important during th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badi MT Condensed Extra Bol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3 months of pregnancy, when neural tube is forming and clos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20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Trea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Regular physical therap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Surgery to remove a sac poking out of the back through a hole, or out of a baby’s he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11600" y="0"/>
            <a:ext cx="3519720" cy="3400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41840" y="3111480"/>
            <a:ext cx="2589480" cy="3746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214800" y="3111480"/>
            <a:ext cx="2554200" cy="374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03680" cy="3111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0" y="3111480"/>
            <a:ext cx="32148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2803680" y="0"/>
            <a:ext cx="221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Nervous system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sudden illnes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mergency/first aid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ry Hidr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oncussion 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is a brain injury that may result in a bad headach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results from a significant blow to the he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mptoms can range from mild to seve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evered spinal cord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inal cord injury occurs when the spinal cord is damaged in a way that results in some loss of sensation and motor contr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Who gets spinal cord injuries?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proximately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2666520"/>
            <a:ext cx="71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people injure their spinal cord in the United States each yea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>
            <a:off x="844920" y="3885120"/>
            <a:ext cx="75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injuries can happen to anyone, at any 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trok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ymptoms of stroke depend on what part of the brain is damaged. In some cases, a person may not even be aware that he or she has had a strok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827000"/>
            <a:ext cx="8229600" cy="26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establish communication throughout the bod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initiate motion by sending signals throughout the body by means of neur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Help prevent a strok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fatty foods. Follow a healthy, low-fat die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 not drink more than 1 to 2 alcoholic drinks a da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ercise regularly: 30 minutes a day if you are not overweight; 60 - 90 minutes a day if you are overweig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troke risk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gh blood pressure is the number one risk factor for strokes. The following also increase your risk for strok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Diabet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Family history of strok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Heart diseas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High cholesterol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ncreasing ag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ases of concussion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more than a million cases of concussion each year in the United Stat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may result when the head hits an object or a moving object strikes the hea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auses of Spinal Cord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mage to the spinal cord is usually caused by one of five different types of injuries. Concussion of the spinal cord occurs when a sudden, violent jolt injures the tissues around the cord. This injury is usually temporary and goes away with in a few hour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Ischemic Strok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chemic stroke occurs when a blood vessel that supplies blood to the brain is blocked by a blood clot. This may happen in two way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A clot may form in an artery that is already very narrow. This is called a thrombus. If it completely blocks the artery, it is called a thrombotic strok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27" name="neuron" descr="/Users/Caroline/Desktop/neuron"/>
          <p:cNvPicPr/>
          <p:nvPr/>
        </p:nvPicPr>
        <p:blipFill>
          <a:blip r:embed="rId2"/>
          <a:srcRect l="-24679" t="0" r="-24679" b="0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2" descr=""/>
          <p:cNvPicPr/>
          <p:nvPr/>
        </p:nvPicPr>
        <p:blipFill>
          <a:blip r:embed="rId2"/>
          <a:stretch/>
        </p:blipFill>
        <p:spPr>
          <a:xfrm>
            <a:off x="450720" y="1603440"/>
            <a:ext cx="7248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3" descr=""/>
          <p:cNvPicPr/>
          <p:nvPr/>
        </p:nvPicPr>
        <p:blipFill>
          <a:blip r:embed="rId2"/>
          <a:stretch/>
        </p:blipFill>
        <p:spPr>
          <a:xfrm>
            <a:off x="407880" y="1603440"/>
            <a:ext cx="7297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3" name="central nervous system" descr="/Users/Caroline/Desktop/central nervous system"/>
          <p:cNvPicPr/>
          <p:nvPr/>
        </p:nvPicPr>
        <p:blipFill>
          <a:blip r:embed="rId2"/>
          <a:srcRect l="-6107" t="0" r="-6107" b="0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912960" y="202896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- Collects and interprets all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nerve impuls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884880" y="3147840"/>
            <a:ext cx="25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- Consists of the br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and spinal co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ains all the nerves not connected to the brain or spinal co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nects these nerves to the Central Nervous Syst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 types: Somatic and Autonom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9" name="somatic nervous system" descr="/Users/Caroline/Desktop/somatic nervous system"/>
          <p:cNvPicPr/>
          <p:nvPr/>
        </p:nvPicPr>
        <p:blipFill>
          <a:blip r:embed="rId2"/>
          <a:srcRect l="-85680" t="0" r="-85680" b="0"/>
          <a:stretch/>
        </p:blipFill>
        <p:spPr>
          <a:xfrm>
            <a:off x="213048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457200" y="1814400"/>
            <a:ext cx="39877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ols voluntary motion such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 the skeletal and muscul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3:00:47Z</dcterms:created>
  <dc:creator>Office 2004 Test Drive User</dc:creator>
  <dc:description/>
  <dc:language>en-US</dc:language>
  <cp:lastModifiedBy>heymanj</cp:lastModifiedBy>
  <dcterms:modified xsi:type="dcterms:W3CDTF">2010-03-17T16:46:06Z</dcterms:modified>
  <cp:revision>14</cp:revision>
  <dc:subject/>
  <dc:title>The Nervous System</dc:title>
</cp:coreProperties>
</file>